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66B-578D-4F09-AF8A-72484E44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203-4F27-435C-BE28-5FEACA4B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D14-8EEC-4A47-8DDB-E714059D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519-6407-47EF-A5BF-678949A3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0F9-ABFD-4D9E-AFCD-3621437D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399-ADBC-41B5-9D03-2978FFDB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0CA-9148-4855-9674-712FDAC5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374-77F5-49AA-8E1E-6A9F49DD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30E-3266-469D-BF20-60112CDE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EE3-49D6-4C9B-A6E5-7EFFF0D7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091-81C8-4DFE-BBED-7C8FAACD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B83-0204-4445-A0AE-695FC591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03C8-12C1-4F52-851E-C8BF66910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.meredith@gold.ac.uk" TargetMode="External"/><Relationship Id="rId2" Type="http://schemas.openxmlformats.org/officeDocument/2006/relationships/hyperlink" Target="http://www.titanmusic.com/teaching/cis336-2006-7.html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3.org/TR/html401/" TargetMode="External"/><Relationship Id="rId2" Type="http://schemas.openxmlformats.org/officeDocument/2006/relationships/hyperlink" Target="http://www.w3.org/TR/html401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3.org/Addressing/" TargetMode="External"/><Relationship Id="rId2" Type="http://schemas.openxmlformats.org/officeDocument/2006/relationships/hyperlink" Target="http://www.w3.org/Addressing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ana.org/assignments/uri-schemes.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itanmusic.com/index.html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tanmusic.com/teaching/cis336-2006-7.html#Some_useful_links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3.org/Addressin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rics.dk/ixwt/" TargetMode="External"/><Relationship Id="rId2" Type="http://schemas.openxmlformats.org/officeDocument/2006/relationships/hyperlink" Target="http://www.brics.dk/ixwt/" TargetMode="External"/><Relationship Id="rId3" Type="http://schemas.openxmlformats.org/officeDocument/2006/relationships/hyperlink" Target="http://www.w3schools.com/" TargetMode="External"/><Relationship Id="rId4" Type="http://schemas.openxmlformats.org/officeDocument/2006/relationships/hyperlink" Target="http://www.w3schools.com/" TargetMode="External"/><Relationship Id="rId5" Type="http://schemas.openxmlformats.org/officeDocument/2006/relationships/hyperlink" Target="http://www.w3.org/" TargetMode="External"/><Relationship Id="rId6" Type="http://schemas.openxmlformats.org/officeDocument/2006/relationships/hyperlink" Target="http://www.w3.org/" TargetMode="Externa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ivinginternet.com/w/wi_nelson.htm" TargetMode="External"/><Relationship Id="rId2" Type="http://schemas.openxmlformats.org/officeDocument/2006/relationships/hyperlink" Target="http://www.livinginternet.com/w/wi_nelson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gmlsource.com/history/roots.ht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5013360"/>
            <a:ext cx="773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S336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site design, implementation and managemen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so Semester 2 of CIS219, CIS221 and IT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1600" y="475920"/>
            <a:ext cx="79707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ctur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ased on Møller and Schwartzbach, 2006, Preface and Chapter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0960" y="2349360"/>
            <a:ext cx="7997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vid Mered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.meredith@gold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itanmusic.com/teaching/cis336-2006-7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334-EEA2-4583-82E0-CE369F404D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TML 1.0 (199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simple compared with later 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gs only describe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gical struc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document, not it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owsers free to interpret tags in any way they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, &lt;title&gt;A title&lt;/title&gt; indicated that the text “A title” is a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es not specify anything about font, colour, size, alignment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up in HTML 1.0 emphasized separation betwee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hysical layou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gical struc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r document formats typically stored logical structure together with physical layou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ant physical layout could not easily be changed in a way that maintained consistency within and across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 files were ther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mall: decreased network traffic and saved on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 robust and independent of particular versions of proprietary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ld be edited in a plain text 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00360" y="1168560"/>
          <a:ext cx="3682800" cy="1612800"/>
        </p:xfrm>
        <a:graphic>
          <a:graphicData uri="http://schemas.openxmlformats.org/drawingml/2006/table">
            <a:tbl>
              <a:tblPr/>
              <a:tblGrid>
                <a:gridCol w="1841400"/>
                <a:gridCol w="184140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scri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74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5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56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332080" y="7588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zes of files containing text “Hello Worl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4C0-28D4-45F4-9E26-3F00FB3954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yout tags and incompatibility between Netscape and Internet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ML quickly became very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ed to be used for publishing commercial information (e.g., product broch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eting people wanted to have more control ov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sensitive to the advantages of separating structure from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 designers capitulated and introduced tags like &lt;font&gt;, &lt;i&gt; (instead of &lt;em&gt;) and &lt;b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RN developers of early Mosaic browser went to California and set up Net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soft entered the market with 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scape and Microsoft developed competing versions of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me difficult to produce web pages that could be viewed on all brow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B70-41D9-4954-B73D-66998CCD99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TML 3.2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Wide Web Consortium (W3C) defines HTML 3.2 standard based on best curren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full of physical layout tags like font tag which allows the font of each element to be specified indivi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ly impractical if you want to maintain a consistent physical layout on all the documents on a site containing more than a few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e having a hundred thousand pages, all individually formatted according to a particular formatting style…and then having to change the sty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C22-2860-4878-BBCF-1E3E669679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TML 4.0 (1997)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Cascading Style Sheets (C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HTML 4.0, problem of managing consistent layout across lots of documents solved by again separating physical layout from logi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al layout specification stored in a separate file called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yl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e style sheet can be used by any number of documents, thus ensuring consistent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ting of all documents can be changed instantly preserving consistency just by changing one styl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recent HTML standard (4.01) introduced minor changes in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specification available he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3.org/TR/html40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ML XML-ified in 2000 to give XHTML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02D-6EEF-4D98-AD9D-6BC0ADE66B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aming and addressing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RIs, URLs, URNs and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form Resource Identifier Activit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w3.org/Addressing/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goal of the Web, since its inception, has been to build a global community in which any party can share information with any other party. To achieve this goal, the Web makes use of a single global identification system: the URI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olume 1 of W3C Recommendation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rchitecture of the World Wide Web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w3.org/TR/webarch/#ident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, URNs and IRIs are all special types of 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9F0-7501-498A-8D48-0C4ECA992A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iform Resource Locators (URLs)</a:t>
            </a: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3.org/Addressing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resources, including HTML documents, referenced us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 (Uniform Resource Loc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following examp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urier New"/>
              </a:rPr>
              <a:t>http://www.titanmusic.com/teaching/cis336-2006-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ourier New"/>
              </a:rPr>
              <a:t>htt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che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ich identifies the transfer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ourier New"/>
              </a:rPr>
              <a:t>www.titanmusic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machine on which the resource is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ourier New"/>
              </a:rPr>
              <a:t>teaching/cis336-2006-7.html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is the 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path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indicating the specific resource o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8F4-3B65-44E4-860B-412935A1D1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niform Resource Identifiers (URIs)</a:t>
            </a:r>
            <a:br>
              <a:rPr sz="3600"/>
            </a:b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http://www.ietf.org/rfc/rfc3986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RLs form a subset of the more general class o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niform Resource Identifi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U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URI may be used to specify any point in the information space – even one that does not physically exi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 defines URI as “a compact sequence of characters that identifies an abstract or physical resourc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example UR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://www.ietf.org/rfc/rfc2396.t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ilto:John.Doe@example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l:+1-816-555-12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s:comp.infosystems.www.servers.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RI has general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schem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scheme-specific-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Many different schemes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isted in a registry maintained by the Internet Assigned Numbers Authority (IA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http://www.iana.org/assignments/uri-schem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UR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cates hierarchic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parates query strings from query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parates a URI from a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fragment iden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dicates an escaped special symbol (only US-ASCII characters are allowed in a U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6A3-66A2-4B8E-8121-CD2581D397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lative U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ve U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document with URI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http://www.titanmusic.com/index.htm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lative UR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Courier New"/>
              </a:rPr>
              <a:t>papers/private/meredith-dphil.pdf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resolved to mea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bsolu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R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Courier New"/>
              </a:rPr>
              <a:t>http://www.titanmusic.com/papers/private/meredith-dphil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use </a:t>
            </a:r>
            <a:r>
              <a:rPr b="0" lang="en-GB" sz="2000" spc="-1" strike="noStrike">
                <a:solidFill>
                  <a:srgbClr val="333399"/>
                </a:solidFill>
                <a:latin typeface="Courier New"/>
              </a:rPr>
              <a:t>bas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g in HTML to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indicate a base URI different from the URI of the current docu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For example,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regardless of where the following file is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ase href="http://www.titanmusic.com/teaching/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 href="cis336-2006-7.html"&gt;Click me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ink will load the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Courier New"/>
              </a:rPr>
              <a:t>http://www.titanmusic.com/teaching/cis336-2006-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AB8-6145-48F9-9B49-CA50D5732E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agment ide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art of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ragmen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resource can be identified by appending a # character followed by the name of the fragment to the URI of the resou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http://www.titanmusic.com/teaching/cis336-2006-7.html#Some_useful_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F0E-BBB1-4F50-956E-21EE17BB6B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iform Resource Names (URNs)</a:t>
            </a: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Addressing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ke URLs, Uniform Resource Names (URNs) are a subset of U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N identifies a particular piece of information without identifying its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urn:isbn:0-471-94128-X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notes a particular book by its ISBN without specifying where copies of this book might b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F7B-44A2-48D4-90F7-3929E89091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XML and Web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early 1990s, World Wide Web bas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TML language for writing hypertex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TTP communication protocol for transferring hypertext documents from one machine to another over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RL notation used for addressing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then, many new technologies have been developed based on thi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main threads of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ize the concept of data on the Web from hypertext to any data whatso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luding data that traditionally would have been stored in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 XML, XPath, DTD, XML Schema, XSLT, XQuery, DOM, JDOM and JAX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d on 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richer languages for constructing application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 Servlets, JSP, WSDL, SOAP and U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new technologies will probably exist and be used for many years and will provide the foundation for future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65B-6CBE-453C-A6AA-C019F3E10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ized Resource Identifiers (IRIs)</a:t>
            </a:r>
            <a:br>
              <a:rPr sz="3600"/>
            </a:b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http://www.ietf.org/rfc/rfc3987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URI, you can only use US-ASCII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RI is designed to allow the use of non-ASCII characters such as the Danish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æ, ø, and å and the French é,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è and 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IRI defined to be a string that maps to a URI under a specific, complicated encod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 example, the IRI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333399"/>
                </a:solidFill>
                <a:latin typeface="Arial"/>
              </a:rPr>
              <a:t>http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://www.bl</a:t>
            </a:r>
            <a:r>
              <a:rPr b="0" lang="da-DK" sz="2000" spc="-1" strike="noStrike">
                <a:solidFill>
                  <a:srgbClr val="333399"/>
                </a:solidFill>
                <a:latin typeface="Arial"/>
              </a:rPr>
              <a:t>å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a-DK" sz="2000" spc="-1" strike="noStrike">
                <a:solidFill>
                  <a:srgbClr val="333399"/>
                </a:solidFill>
                <a:latin typeface="Arial"/>
              </a:rPr>
              <a:t>æ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gr</a:t>
            </a:r>
            <a:r>
              <a:rPr b="0" lang="da-DK" sz="2000" spc="-1" strike="noStrike">
                <a:solidFill>
                  <a:srgbClr val="333399"/>
                </a:solidFill>
                <a:latin typeface="Arial"/>
              </a:rPr>
              <a:t>ø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.dk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ps to the UR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http://www.xn--blbrgrd-fxak7p.dk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BF0-40BB-4DC3-BE3A-E908A0DBFC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280" y="44280"/>
            <a:ext cx="8686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quick review of HTML: Overall documen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4121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nt of an HTML file contained within a singl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ag na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lement contains two child elements, name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element delimited by a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tart ta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e.g.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nd ta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e.g.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tag can have zero or mor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ag has an attribute whose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whose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value of an attribute should always go inside double quotes (or single quotes, if the value contains a double quote itsel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lement contains the text that appears at the top of the window frame in the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element always goes inside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ea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ment of an HTML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5572080" cy="1552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24360" y="1268280"/>
            <a:ext cx="4591080" cy="27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C62-BBF6-4A02-B734-CF0B087B8F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ple text forma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4276800" cy="5829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46440" y="853920"/>
            <a:ext cx="4127760" cy="58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452-1C36-43AB-8CEC-8ECD1E92C6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re simple forma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33840" y="692280"/>
            <a:ext cx="4502160" cy="5900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4276800" cy="58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50D-047B-40FB-8EC1-AE5AE6FD11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439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5435640" cy="3949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6000" y="12891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do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9080" y="1094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do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19800" y="476280"/>
            <a:ext cx="3724200" cy="63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E1F-9C6C-45B2-9683-59C67C19A0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05160" y="1052640"/>
            <a:ext cx="5838840" cy="550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8000" y="1917720"/>
            <a:ext cx="315288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EAA-CB07-4358-83FD-F0317287D7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voking remote services using fill-out 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640640" cy="2095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4797360"/>
            <a:ext cx="3419280" cy="164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067280" y="3141720"/>
            <a:ext cx="4048200" cy="3524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3080" y="38815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gle-sear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27A-3BD2-4AEF-B14C-14B8C0B132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40000" y="44280"/>
            <a:ext cx="63468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UI Tags in HTML 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30240"/>
            <a:ext cx="2120760" cy="6783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660240"/>
            <a:ext cx="4846680" cy="6008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88000" y="620640"/>
            <a:ext cx="2556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ous GUI tags that collect user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produces a name-value pair of strings which is sent to th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idd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put tag is invisible and used to retain information between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xpects image to be clicked by user and sends coordinates as two values name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g.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g.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itiates invocation of remot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enders the form from scr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-value pairs collected in order of occur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ltiple pairs with same name are possi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_form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F64-62B6-43C3-9419-9BDD373A5F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ling to separate physical layout from logic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3860280"/>
            <a:ext cx="9144000" cy="26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 page ha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gical struc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hysical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bove, logical structure is that page starts with a header, then has a list in which the telephone numbers are emphas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ysical layout of page is that the header is large, centred and red, items in the list have square bullets and emphasis is rendered as bold ital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 to right shows how this could be achieved using HTML physical layout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how we have to repeat the formatting explicitly for each list item – if we wanted to change how list items were formatted, we would have to change each item individ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is is because we have not separated physical layout from logical structu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504880" cy="3143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5781600" cy="30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FB8-19DE-48F9-90CC-5DBC087594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scading Style Sheets (CSS)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3.org/Style/CS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ow for logical structure and physical layout to be specified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 separate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up in HTML file describe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logic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layout specified separately in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yle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Cascading Style Sheet (CSS) is a list in which each item associates a set of formatting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ith specified HTML t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tags with which a given set of properties is associated is specified using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e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re are 51 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properties (e.g., font-fami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 and background properties (e.g., background-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 properties (e.g., text-al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x properties (e.g., margin-le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properties (e.g., list-style-typ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440" y="955800"/>
            <a:ext cx="2743200" cy="1609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71640" y="1351080"/>
            <a:ext cx="6392880" cy="1790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771640" y="3605040"/>
            <a:ext cx="3457800" cy="400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2880" y="3278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e.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2880" y="981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8440" y="2971800"/>
            <a:ext cx="2743200" cy="1609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4560" y="26370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out style she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4920" y="6620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style she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BE3-9305-408D-8DEB-DD40E55BEE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er, A. and Schwartzbach, M.I. (2006)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 Introduction to XML and Web Technolog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ddison-Wesley. ISBN: 0-321-26966-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ion web-si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rics.dk/ixw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ine tutori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3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www.w3school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Wide Web Consortium (W3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www.w3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DC0-A03F-4FE1-904F-F251ADA4E7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selectors in C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sible to associate different sets of properties with the same HTML tag in different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bove example,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gs can be nested deep inside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28960" y="946080"/>
            <a:ext cx="6215040" cy="2482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846880" y="5493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or-exam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916360" y="3849840"/>
            <a:ext cx="4019400" cy="371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46520" y="34941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or-example.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4920" y="1401840"/>
            <a:ext cx="2808360" cy="231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9B1-A842-442C-8E91-2FBDDC19D7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class attributes with C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ttribute of an HTML tag can be used to specialize it so that different formatting can be assigned to different instances of the same tag within th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than one set of properties might apply to a given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one used is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st specific one that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yle sheets ar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sc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means that once a property set has been defined for a tag, it holds for all tag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at tag unless those inner tags have defined values in the style 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nce “Surprise, surprise!” is rendered in red because it is inside a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448160" cy="3981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410544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569-4EB1-4BDD-B185-EDFA0B0EEB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7466040" cy="29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div and span to define your own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45720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ave no layout properties of their own so they can be specialized with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tribute and used to define new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block-level tag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n inline or text-level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ement can contai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ements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00720" y="2924280"/>
            <a:ext cx="3743280" cy="35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0D8-861E-418F-ACCB-57CCDEE0CD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ormatting with style she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ing phone number list using style sheet which separates physical layout from logi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73640" y="3587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-css.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64000" y="3927600"/>
            <a:ext cx="5533920" cy="581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92360" y="1335240"/>
            <a:ext cx="5616720" cy="2176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429720" y="9763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-cs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2927160" cy="36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0D5-FFA0-4AAD-B8B6-436A5CCEA0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lure to achieve platform-independent 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987640" y="847800"/>
          <a:ext cx="3106800" cy="1212840"/>
        </p:xfrm>
        <a:graphic>
          <a:graphicData uri="http://schemas.openxmlformats.org/drawingml/2006/table">
            <a:tbl>
              <a:tblPr/>
              <a:tblGrid>
                <a:gridCol w="2482920"/>
                <a:gridCol w="62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Explor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scape/Mozilla/Firef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200 other brow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47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pages are often rendered differently in different brow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many different browsers, but a few dominate (see 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, each browser typically released in many different versions on different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-written web pages should work well on all recent brow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authors often don’t test their pages on different browsers and different machines so pages may only work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we get lame excuses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page is optimized for the XXX browser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D: “I couldn’t be bothered to test this page in more than one browser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page is best viewed in 1024 x 768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D: “My screen has a resolution of 1024 x 768 and it works fine on that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7D9-5098-4C4A-81BB-2BFA26AAE4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2611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3212640"/>
            <a:ext cx="37083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tform independence (interoperability) can be achieved by ensuring that your web pages ar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 is an SGML language, defined by a Document Type Definition (DT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 HTML file can therefore be validated by checking that it conforms with the D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ity of an HTML page can be checked by using the official W3C valid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validator.w3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2381400" cy="1676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666960" cy="904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687840" y="-79200"/>
            <a:ext cx="545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635280" y="0"/>
            <a:ext cx="5523120" cy="65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CC6-FF79-49F8-99E3-D2DE15462B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st Web pages are invali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961920"/>
          <a:ext cx="2808360" cy="181944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google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err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microsof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err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sun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err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ibm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err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gold.ac.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err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bbc.co.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err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40000" y="764640"/>
            <a:ext cx="5003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the home pages of major web sites contain errors (see 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validity often ign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gnorance of the DTD for 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ols automatically generate invalid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plest MS Word document containing “Hello World” contains 6 errors when validated against HTML 4.01 Transitional (loo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owsers never report errors and can often make a decent job of rendering even very poorly written HTML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compilers which reject any code with even the smallest syntax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ood th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t compilers don’t try to guess what the programmer really me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browsers rejected invalid web pages, then the user wouldn’t be able to read very much of the stuff on the we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good browsers should render valid HTML in essentially the sam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browsers free to interpret invalid HTML in any way they w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t browsers often make different guesses as to what the author of an invalid page actually me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2878200"/>
            <a:ext cx="2467080" cy="2495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5473800"/>
            <a:ext cx="3962520" cy="1123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600" y="61452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s obtained 8 Jan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EA7-DC57-4CF4-B55E-F4922BD8EF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920" y="1254240"/>
            <a:ext cx="6675480" cy="2895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3280" y="189000"/>
            <a:ext cx="2746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TML Ti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14560" y="4121280"/>
            <a:ext cx="6229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of inconsistent display of invalid HTML could be solved if all browsers used the same algorithm for correcting invalid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uld be done using the HTML Tid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tidy.sourceforg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2467080" cy="2495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003640" y="2333520"/>
            <a:ext cx="3962520" cy="11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AE4-7C38-4BBC-B71B-A46B0CA4BB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mitations of HT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164000" y="549360"/>
            <a:ext cx="1979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tags used here to indicate structure of reci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no way of enforcing correct format fo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not easily sort recipes or select a subset with particular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not easily perform computations on the recip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not a good language for making a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designed specifically for the hypertext domain, not other domains (like reci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HTML, syntax and semantics (or structure and layout) are intertwined, even if we use cascading style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data storage, we want to store data with logical structure only so that it can be processed and formatted in all sorts of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8000" y="511200"/>
            <a:ext cx="2330280" cy="6346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476440" y="549360"/>
            <a:ext cx="4697640" cy="63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ABF-5A68-414E-B820-75DFB821D2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tarted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ain threads of development s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 comb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er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up langu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 is a specialization of SG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ML introduced DT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, HTTP and URLs introduced in about 1989 at 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 1.0 tags originally only for structure, not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applications demanded inclusion of layout t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 3.2 full of layout t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 4.0 and CSS attempt to separate structure from layou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addressed using U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I has format: scheme:scheme-specific-p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Ls are a subset of URIs with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me://server/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overview of HTML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ad and body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le text formatting t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formatted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overview of 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ors and proper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class at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v and sp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operability and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web pages are invali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ML Ti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A5F-64DD-4F89-9600-2905D925E97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3214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-Text Markup Language (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cading Style Sheets (C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sible Markup Language (X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sible HyperText Markup Language (X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 Name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cument Type Definition (DT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sible Stylesheet Language (XSL), incl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L Transformations (XS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L Formatting Objects (XSL-F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cument Object Model (D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va Document Object Model (JD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va Architecture for XML Binding (JAX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eaming XML with Simple API for XML (SAX) and XmlP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Text Transfer Protocol (HTT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ure Sockets Layer (SSL) and Transport Layer Security (T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va Web 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l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vaServer Pages (J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Services Description Language (WSD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iversal Description, Discovery and Integration (UDD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8FD-49F7-4A1C-BB5B-6E83E07C70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ypertext and Markup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L developed to solve problems with HTML, so makes sense to start with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ML = HyperText Markup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p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s information into documents connected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up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a notation for explicitly annotating formal structure of tex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6B2-DF01-40A4-AEEA-CBF487849C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yper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tion organised into documents connected with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-dates World Wide Web by many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working hypertext system and term “hypertext” itself (probably) introduced by Ted Nelson in the lat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livinginternet.com/w/wi_nelso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pertext evolved in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ypermed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ind of media files connected by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C46-92F8-44DE-9E35-3CA3F32D6D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rkup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notation for annotating the formal structure of a tex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ived around 1970 by Charles F. Goldfarb at IBM who invented first markup language called GML (Generalized Markup Langua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r known as InTIME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Textual Information Management Experi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gmlsource.com/history/root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ltimately led to development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andard Generalized Markup Language (SG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zed in 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d angle bracket notation for ta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, &lt;h2&gt;A Second-Level Heading&lt;/h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d Document Type Definition (DTD) language for defining syntax of specific SGML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ed by large organizations such as EU and US Department of Defense for storing millions of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applied to describe documents in many different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, financial records, legal texts, movie scripts, medical records, music notation, pa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244-9865-41E0-8AA4-FC004C3D5C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of SG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6985080" cy="148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s of this file consists of on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ement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d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eeting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starts with th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art ta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greeting style="big"&gt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nd ends with the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end ta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greeti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ags make explicit the logical structure of 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tart tag contains an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attribute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, whose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value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i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CTYPE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part is a DTD schema, defining allowed structure and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EMENT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part states that there is an element type named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reeting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whose contents must be pl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TTLIST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part states that each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reeting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element must have an attribute named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which takes one of two values,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ig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or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mall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, with a default value of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part states that there is an entity named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i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which expands to the string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"Hello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amp;hi;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in the last line of the code is an entity reference to the entity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11280" y="2252520"/>
            <a:ext cx="6553440" cy="9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314-895E-4D8D-BE41-E215AF19A1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y of 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Wide Web originated in 1989 when Tim Berners-Lee proposed a simple global hypermedia system for organising the vast amounts of data generated by the experiments carried out at 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990, Berners-Lee developed HTML, HTTP and the URL notation which provided the infrastructure for the World Wid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 (HyperText Transfer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-level protocol for transmitting documents on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RL (Uniform Resource Loc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ation for specifying locations of files on servers on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ML (HyperText Markup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for creating documents that combines the concepts of hypertext and markup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AA0-82FA-4C0C-9C1E-4C150C9F44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7:34:47Z</dcterms:created>
  <dc:creator>David Meredith</dc:creator>
  <dc:description/>
  <dc:language>en-US</dc:language>
  <cp:lastModifiedBy>David Meredith</cp:lastModifiedBy>
  <dcterms:modified xsi:type="dcterms:W3CDTF">2007-01-08T22:13:32Z</dcterms:modified>
  <cp:revision>241</cp:revision>
  <dc:subject/>
  <dc:title>CIS224 Software Projects: Software Engineering and Research Methods</dc:title>
</cp:coreProperties>
</file>